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971-1EFD-480A-B6A7-1F7F8A81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C3D-47DC-402A-A866-33147AC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3A7-9E87-4B07-B028-09977BD2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25E-2CA7-4290-BA8F-C4767C6D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A18A-E09F-4E83-BA27-645A2966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EA2-D815-45A4-8852-C17E20F0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7EA-C350-43E9-A7DA-7139C1D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20EE-E013-4789-8BE6-F2D15547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AD18-F5AA-44F9-9C1A-275DBCB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2A3C-D82C-4289-BD26-544A643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F3C8-6C96-4088-87B3-DBCC581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A49-4788-4224-A5B9-9B6DB59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523C-714B-44F2-A3D8-CD647ED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A549-3CED-4762-B4EB-D8A4122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5A03-CD47-44BE-9843-50DCB38A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09F5-9152-45B3-B951-69D8711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366A-47C8-4550-89EA-680D9317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E75-41A7-4BAF-93A4-945AC88E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6AC-5F03-48B7-ADFF-C6FE4B5A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844-2C17-4B52-8C90-95802CA8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C86-8F00-47E6-B87A-096246CF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921-536C-4128-BE1A-6A41589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C0E-C296-40DC-B1BB-63D1EE3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C4F-FD86-430B-921F-60D6F04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7A5F-C334-4EE0-8F27-8A18A25F1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C9FA-DF3F-4538-A603-EF944FA29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MOD: System Architecture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Adaptors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05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11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657600"/>
            <a:ext cx="2590560" cy="685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d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657600"/>
            <a:ext cx="2590920" cy="685800"/>
          </a:xfrm>
          <a:prstGeom prst="rect">
            <a:avLst/>
          </a:prstGeom>
          <a:solidFill>
            <a:srgbClr val="f5a2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n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Xchange Format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28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34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38862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ige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Service Architecture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50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56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4343400"/>
            <a:ext cx="4572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343400"/>
            <a:ext cx="22068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33360" y="2590920"/>
            <a:ext cx="29718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057400" y="2666520"/>
            <a:ext cx="17524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e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343400"/>
            <a:ext cx="14400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657240" y="4343400"/>
            <a:ext cx="160020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962520" y="2590920"/>
            <a:ext cx="13716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57600" y="2666520"/>
            <a:ext cx="3808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67080" y="2742840"/>
            <a:ext cx="76212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95680" y="2666520"/>
            <a:ext cx="2057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r installation &amp; integr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 fi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er extensibility &amp; maintainabil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do the modules interact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User installation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endencies, updates, vers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ADME &amp; HOWTO fil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ite-specific vs common configura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dictable directory structur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r suppor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g tracking &amp; feature reque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How do the Modules Interact?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88320" y="3760920"/>
            <a:ext cx="1317600" cy="810720"/>
            <a:chOff x="6988320" y="3760920"/>
            <a:chExt cx="1317600" cy="810720"/>
          </a:xfrm>
        </p:grpSpPr>
        <p:sp>
          <p:nvSpPr>
            <p:cNvPr id="94" name=""/>
            <p:cNvSpPr/>
            <p:nvPr/>
          </p:nvSpPr>
          <p:spPr>
            <a:xfrm>
              <a:off x="6988320" y="4167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8320" y="4032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8320" y="38955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88320" y="37609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371600" y="3352680"/>
            <a:ext cx="917280" cy="1429920"/>
            <a:chOff x="1371600" y="3352680"/>
            <a:chExt cx="917280" cy="1429920"/>
          </a:xfrm>
        </p:grpSpPr>
        <p:sp>
          <p:nvSpPr>
            <p:cNvPr id="99" name=""/>
            <p:cNvSpPr/>
            <p:nvPr/>
          </p:nvSpPr>
          <p:spPr>
            <a:xfrm>
              <a:off x="1371600" y="335268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8520" y="359172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4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7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454800" y="2236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5800" y="2313000"/>
            <a:ext cx="1317600" cy="810720"/>
            <a:chOff x="3025800" y="2313000"/>
            <a:chExt cx="1317600" cy="810720"/>
          </a:xfrm>
        </p:grpSpPr>
        <p:sp>
          <p:nvSpPr>
            <p:cNvPr id="105" name=""/>
            <p:cNvSpPr/>
            <p:nvPr/>
          </p:nvSpPr>
          <p:spPr>
            <a:xfrm>
              <a:off x="3025800" y="2719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2584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5800" y="24476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25800" y="23130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4827600"/>
            <a:ext cx="1317600" cy="810720"/>
            <a:chOff x="3559320" y="4827600"/>
            <a:chExt cx="1317600" cy="810720"/>
          </a:xfrm>
        </p:grpSpPr>
        <p:sp>
          <p:nvSpPr>
            <p:cNvPr id="110" name=""/>
            <p:cNvSpPr/>
            <p:nvPr/>
          </p:nvSpPr>
          <p:spPr>
            <a:xfrm>
              <a:off x="3559320" y="5233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9320" y="5098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9622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9320" y="48276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8400" y="53611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49680" y="34560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38280" y="4038480"/>
            <a:ext cx="1958760" cy="1008360"/>
            <a:chOff x="2438280" y="4038480"/>
            <a:chExt cx="1958760" cy="1008360"/>
          </a:xfrm>
        </p:grpSpPr>
        <p:sp>
          <p:nvSpPr>
            <p:cNvPr id="117" name=""/>
            <p:cNvSpPr/>
            <p:nvPr/>
          </p:nvSpPr>
          <p:spPr>
            <a:xfrm>
              <a:off x="2438280" y="4079520"/>
              <a:ext cx="1958760" cy="9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440" y="4038480"/>
              <a:ext cx="51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2263320" y="5078520"/>
            <a:ext cx="1219320" cy="407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5840" y="490392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3983040"/>
            <a:ext cx="685800" cy="1602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307512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06520" y="4522680"/>
            <a:ext cx="1219320" cy="1008360"/>
            <a:chOff x="5006520" y="4522680"/>
            <a:chExt cx="1219320" cy="1008360"/>
          </a:xfrm>
        </p:grpSpPr>
        <p:sp>
          <p:nvSpPr>
            <p:cNvPr id="124" name=""/>
            <p:cNvSpPr/>
            <p:nvPr/>
          </p:nvSpPr>
          <p:spPr>
            <a:xfrm flipH="1">
              <a:off x="5006520" y="4697280"/>
              <a:ext cx="1219320" cy="40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37440" y="4522680"/>
              <a:ext cx="6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6759720" y="4675320"/>
            <a:ext cx="838080" cy="819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7280" y="4675320"/>
            <a:ext cx="65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49320" y="261792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61680" y="1752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2880" y="3151080"/>
            <a:ext cx="152640" cy="5335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7160" y="292248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770200"/>
            <a:ext cx="434880" cy="7351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9400" y="2895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600200"/>
            <a:ext cx="7772400" cy="487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590920"/>
            <a:ext cx="25905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4920" y="2590920"/>
            <a:ext cx="2590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Integrated MOD Applic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3392280"/>
            <a:ext cx="0" cy="17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4560" y="4203720"/>
            <a:ext cx="1317600" cy="404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406872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4560" y="3932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84560" y="3797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720" y="1905120"/>
            <a:ext cx="917280" cy="1429920"/>
            <a:chOff x="4284720" y="1905120"/>
            <a:chExt cx="917280" cy="1429920"/>
          </a:xfrm>
        </p:grpSpPr>
        <p:sp>
          <p:nvSpPr>
            <p:cNvPr id="145" name=""/>
            <p:cNvSpPr/>
            <p:nvPr/>
          </p:nvSpPr>
          <p:spPr>
            <a:xfrm>
              <a:off x="4284720" y="190512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640" y="214416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382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08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24120" y="4743360"/>
            <a:ext cx="658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204880" y="4743360"/>
            <a:ext cx="65916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Vertical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696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816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816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07960" y="2286000"/>
            <a:ext cx="917280" cy="1429920"/>
            <a:chOff x="1407960" y="2286000"/>
            <a:chExt cx="917280" cy="1429920"/>
          </a:xfrm>
        </p:grpSpPr>
        <p:sp>
          <p:nvSpPr>
            <p:cNvPr id="164" name=""/>
            <p:cNvSpPr/>
            <p:nvPr/>
          </p:nvSpPr>
          <p:spPr>
            <a:xfrm>
              <a:off x="140796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488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1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133720"/>
            <a:ext cx="175284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8648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27320" y="4584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27320" y="4449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320" y="4313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7320" y="4178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27480" y="2286000"/>
            <a:ext cx="917280" cy="1429920"/>
            <a:chOff x="4227480" y="2286000"/>
            <a:chExt cx="917280" cy="1429920"/>
          </a:xfrm>
        </p:grpSpPr>
        <p:sp>
          <p:nvSpPr>
            <p:cNvPr id="176" name=""/>
            <p:cNvSpPr/>
            <p:nvPr/>
          </p:nvSpPr>
          <p:spPr>
            <a:xfrm>
              <a:off x="422748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440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0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3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6252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0564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684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684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84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684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47000" y="2286000"/>
            <a:ext cx="917280" cy="1429920"/>
            <a:chOff x="7047000" y="2286000"/>
            <a:chExt cx="917280" cy="1429920"/>
          </a:xfrm>
        </p:grpSpPr>
        <p:sp>
          <p:nvSpPr>
            <p:cNvPr id="188" name=""/>
            <p:cNvSpPr/>
            <p:nvPr/>
          </p:nvSpPr>
          <p:spPr>
            <a:xfrm>
              <a:off x="704700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392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0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3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00" y="170964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171468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4840" y="171468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828440" y="2971800"/>
            <a:ext cx="1143000" cy="1905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190760" y="4266720"/>
            <a:ext cx="106668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derated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0480" y="3352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33440" y="5029200"/>
            <a:ext cx="1317960" cy="810720"/>
            <a:chOff x="2233440" y="5029200"/>
            <a:chExt cx="1317960" cy="810720"/>
          </a:xfrm>
        </p:grpSpPr>
        <p:sp>
          <p:nvSpPr>
            <p:cNvPr id="201" name=""/>
            <p:cNvSpPr/>
            <p:nvPr/>
          </p:nvSpPr>
          <p:spPr>
            <a:xfrm>
              <a:off x="2233440" y="5435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3440" y="5300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3440" y="516384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3440" y="502920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724280" y="1371600"/>
            <a:ext cx="917280" cy="1429920"/>
            <a:chOff x="4724280" y="1371600"/>
            <a:chExt cx="917280" cy="1429920"/>
          </a:xfrm>
        </p:grpSpPr>
        <p:sp>
          <p:nvSpPr>
            <p:cNvPr id="206" name=""/>
            <p:cNvSpPr/>
            <p:nvPr/>
          </p:nvSpPr>
          <p:spPr>
            <a:xfrm>
              <a:off x="4724280" y="13716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1200" y="161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7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62440" y="3352680"/>
            <a:ext cx="144972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5958000"/>
            <a:ext cx="146700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50160" y="5958000"/>
            <a:ext cx="1907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600" y="5958000"/>
            <a:ext cx="1610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33920" y="5029200"/>
            <a:ext cx="1317600" cy="810720"/>
            <a:chOff x="4633920" y="5029200"/>
            <a:chExt cx="1317600" cy="810720"/>
          </a:xfrm>
        </p:grpSpPr>
        <p:sp>
          <p:nvSpPr>
            <p:cNvPr id="215" name=""/>
            <p:cNvSpPr/>
            <p:nvPr/>
          </p:nvSpPr>
          <p:spPr>
            <a:xfrm>
              <a:off x="4633920" y="5435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3920" y="5300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3920" y="516384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3920" y="502920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34040" y="5029200"/>
            <a:ext cx="1317960" cy="810720"/>
            <a:chOff x="7034040" y="5029200"/>
            <a:chExt cx="1317960" cy="810720"/>
          </a:xfrm>
        </p:grpSpPr>
        <p:sp>
          <p:nvSpPr>
            <p:cNvPr id="220" name=""/>
            <p:cNvSpPr/>
            <p:nvPr/>
          </p:nvSpPr>
          <p:spPr>
            <a:xfrm>
              <a:off x="7034040" y="5435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040" y="5300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516384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502920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2209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523880" y="4038480"/>
            <a:ext cx="99072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4191120"/>
            <a:ext cx="25146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4191120"/>
            <a:ext cx="838080" cy="7617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6858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24280" y="4038480"/>
            <a:ext cx="2286000" cy="990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412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24080" y="4267080"/>
            <a:ext cx="533520" cy="609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URL Link Integration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816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816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816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7960" y="3689280"/>
            <a:ext cx="917280" cy="1025280"/>
            <a:chOff x="1407960" y="3689280"/>
            <a:chExt cx="917280" cy="1025280"/>
          </a:xfrm>
        </p:grpSpPr>
        <p:sp>
          <p:nvSpPr>
            <p:cNvPr id="242" name=""/>
            <p:cNvSpPr/>
            <p:nvPr/>
          </p:nvSpPr>
          <p:spPr>
            <a:xfrm>
              <a:off x="140796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488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1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4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14300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657600"/>
            <a:ext cx="175284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8648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533700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7320" y="524016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7320" y="514368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7320" y="504684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7480" y="3689280"/>
            <a:ext cx="917280" cy="1025280"/>
            <a:chOff x="4227480" y="3689280"/>
            <a:chExt cx="917280" cy="1025280"/>
          </a:xfrm>
        </p:grpSpPr>
        <p:sp>
          <p:nvSpPr>
            <p:cNvPr id="254" name=""/>
            <p:cNvSpPr/>
            <p:nvPr/>
          </p:nvSpPr>
          <p:spPr>
            <a:xfrm>
              <a:off x="422748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440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3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6252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0564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684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684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684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84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47000" y="3689280"/>
            <a:ext cx="917280" cy="1025280"/>
            <a:chOff x="7047000" y="3689280"/>
            <a:chExt cx="917280" cy="1025280"/>
          </a:xfrm>
        </p:grpSpPr>
        <p:sp>
          <p:nvSpPr>
            <p:cNvPr id="266" name=""/>
            <p:cNvSpPr/>
            <p:nvPr/>
          </p:nvSpPr>
          <p:spPr>
            <a:xfrm>
              <a:off x="704700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5392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0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3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78168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200" y="320040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2720" y="320364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4840" y="320364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1219320"/>
            <a:ext cx="441972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R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3920" y="282744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genome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1600" y="281952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stock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7760" y="28116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lit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Common Data Model &amp; API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1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2640" y="5208480"/>
            <a:ext cx="1317600" cy="811440"/>
            <a:chOff x="3122640" y="5208480"/>
            <a:chExt cx="1317600" cy="811440"/>
          </a:xfrm>
        </p:grpSpPr>
        <p:sp>
          <p:nvSpPr>
            <p:cNvPr id="283" name=""/>
            <p:cNvSpPr/>
            <p:nvPr/>
          </p:nvSpPr>
          <p:spPr>
            <a:xfrm>
              <a:off x="3122640" y="5614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2640" y="5479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2640" y="5343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2640" y="5208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018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5208480"/>
            <a:ext cx="1317600" cy="811440"/>
            <a:chOff x="5089680" y="5208480"/>
            <a:chExt cx="1317600" cy="811440"/>
          </a:xfrm>
        </p:grpSpPr>
        <p:sp>
          <p:nvSpPr>
            <p:cNvPr id="289" name=""/>
            <p:cNvSpPr/>
            <p:nvPr/>
          </p:nvSpPr>
          <p:spPr>
            <a:xfrm>
              <a:off x="5089680" y="5614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680" y="5479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9680" y="5343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89680" y="5208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440" y="4267080"/>
            <a:ext cx="0" cy="865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3560" y="42670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1760" y="3505320"/>
            <a:ext cx="3886200" cy="685800"/>
          </a:xfrm>
          <a:prstGeom prst="rect">
            <a:avLst/>
          </a:prstGeom>
          <a:solidFill>
            <a:srgbClr val="f1c58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mon Schema/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37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9936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8:12:16Z</dcterms:modified>
  <cp:revision>560</cp:revision>
  <dc:subject/>
  <dc:title>Training</dc:title>
</cp:coreProperties>
</file>